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F530-1079-4C6C-B9F5-4DBF6BA2C8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F1C1-041D-47E9-9BB9-312EB673AF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EEF-3B44-44E4-AF16-4F34AD45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68A-EF06-4444-B7D5-2B314E3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71E-1924-406A-98E7-AC6CFFBB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815-EA45-409C-A8B6-BAD17D4E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E8A0-E452-4EEC-84A9-22112799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C7DD-9EF2-4EBE-8781-C0E1F589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3829-EB83-4BA3-AD21-C57A25DB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B74D-BFB6-4C2F-9A77-C6C5E7C4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7AD7-EB83-4218-8F71-E843B495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F40F-138B-4700-9DE8-790F3BC2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C8EE-670A-48DD-A1D1-CEDFE83E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0F6-CFA3-46F7-893E-350E6145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4F02-A634-47A6-ABC9-0968E45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CA36-9333-473F-B57F-CF4ED67D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C9C3-732F-4E10-B174-CEA5F50A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D03D-D5A2-4A17-BB40-D4AB94A8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32EC-E7A6-429C-BCAC-6EBD8689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F507-6C20-44D2-92DA-0EC86FC5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8957-F2B8-466C-8C9F-AB9D7C0E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5688-AA07-4823-967D-93E917E7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5F02-1424-4752-A2C5-35B9FA48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6D11-E494-481D-94A6-938DF8D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04C-0CD0-4BB2-9B2E-9C472209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5BDB-1172-405F-A52D-9EF7B7D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58EC-658A-43CA-BE42-389C031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B930-AD5F-456D-9C82-1A01A43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FC12-5F28-49A4-AFD3-D94D17B6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6796-2EB3-4EEF-86E4-09B42E8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BB37-FB2E-44D9-83AA-9BF01F9B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F765-CD7D-4017-BCA7-B4324980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F0B1-60DC-40D8-A5D5-35876D87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9DDB9-4557-49CE-B58E-B411A0B0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0CADE-7303-4A91-8EE9-46A12B6B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75D-FCB9-4BF4-B185-ED12581F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C426-3A9A-4C36-8297-8F62F489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0EA6-6DB9-4252-B4EE-3920F0EE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70C7-0205-41C1-9D96-2B71CE6F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8803-7189-45C9-A0CF-029B9D4A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F3A6-B296-498B-91B2-A1A41C91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1BB7-AC83-4FB0-A9B1-8635183B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2C18-4DDE-4D63-9B23-2AF307B9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5935A-6003-48C0-87C8-568A22BB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E182-85B5-4659-8177-8A0A1DD7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96990-16A9-4A60-A911-3F20AB25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7E4-46AB-4CC0-A81B-4EC736B5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35A8-548F-42A7-805C-70C35FAC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B316-0AAD-4007-B5C2-92573421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CB4D-ECD6-4A28-B999-6D506BA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17199-DC59-4ED8-AED9-5B7F9BF9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A0156-A122-470F-B59F-50B50F45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941D2-710C-4B09-91A6-17222739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C7FC4-1D76-4D8B-A6A7-728537A5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7D621-5085-4F30-9CB9-8BD13A6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69CE-BEF3-42B6-884F-F3D31139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88EB-32A0-4EC6-89EA-175B7680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5B7-CA54-4436-AD55-CCA9BDA4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D9659-B279-4B42-A0B2-9939579D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4A06D-1602-478F-8313-B1017895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E4F3-AFC7-4F42-8B86-EDAC202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7F585-D5F3-4F79-9229-3E09424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56BC8-2483-4625-9FDC-0ABE9161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8FF1-B86D-4D0E-9D1E-14AEE6ED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410CA-E159-42E2-B203-657B35A2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84805-5AB1-46FC-8DAF-92AC05C2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DAE0-463C-4F03-B9F4-1B24EC2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C82B8-C0C1-44B3-B6D9-C234FE40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CA7-0FF3-450B-A1FC-6995ED1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C0AC2-A6BE-4DAA-B0CD-37CE667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F38F-694A-47D4-96BC-0583B518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9998-3C3F-4D65-8153-9D3919D9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CBCA0-A308-4E32-BE48-79B38DF8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14F0-8003-4669-92C4-314E4224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8A71C-E343-436E-A03E-3085AF80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39E8-BF7A-44C0-B3CF-45302EC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28773-E5F3-4318-8065-0E52896F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79EFF-EED5-429A-8633-EEDD5C9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6B563-91A9-4BA0-99EB-14F281FE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366-700A-4EF4-B959-5C41D420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EDF6-A4FF-4FD9-8058-DB50A46E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13C58-ED49-44E3-BB18-F62A9F5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45F5B-43F8-433A-93BF-62532A04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2255A-3BA9-4B84-AA5E-9AF8E2C6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28C40-87F6-4137-9A10-763CD5B0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57746-3F97-467F-9207-4BE07ACB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DCA43-0FA9-41C3-A47B-51EBEC9E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11BD-6046-4D8B-8238-68CF4099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B1B78-F9FE-4842-8E98-F1ACC263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EAF3-ABE5-49C6-9BED-DFF7A650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CBB-90A7-4F0E-AC03-5F728AE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881E4-D3CB-4C54-A011-6896522E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744E4-C4FF-4A10-AF6F-EC328CC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9ACC2-4686-4301-BB16-E917BAFC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5A348-E4DF-4381-BA65-8F488CE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B62DF-AA92-4AF6-8FC7-EB6DC150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DDCCA-795F-4524-BE85-67C04C49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6FF05-06CF-4C77-ACE4-2C972934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DD4-9090-4742-882A-2ECDD2FE211D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7B4C-0F41-4BBF-8FF3-06CF2906D35A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CB09-DDDD-4CCF-8F5C-F8006D0C0BF7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4F8-58D8-4240-B635-E03E29227CC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0FD6-64A6-4CF9-8A1F-75FAF40B1369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69CE-B955-412C-B910-6F4082F7A78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C260-48B1-45F2-8669-BE4B73D67A6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ângulo retângu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ector reto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3D5A-1317-4303-A160-52532ECCEA96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ítulo 3" descr=""/>
          <p:cNvPicPr/>
          <p:nvPr/>
        </p:nvPicPr>
        <p:blipFill>
          <a:blip r:embed="rId1"/>
          <a:stretch/>
        </p:blipFill>
        <p:spPr>
          <a:xfrm>
            <a:off x="682560" y="-225360"/>
            <a:ext cx="876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Rutherford realiza a primeira transmutação induzida, também conhecida como reação nucle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A ele é amplamente creditada à primeira divisão do átomo, que deu início em 1917, liderando a primeira experiência de "dividir o núcleo" de uma forma controlada por dois alunos sob sua direção, John Cockcroft e Ernest Walt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Imagem 7" descr="http://upload.wikimedia.org/wikipedia/commons/thumb/1/15/Nuclear_fission.svg/200px-Nuclear_fission.svg.png"/>
          <p:cNvPicPr/>
          <p:nvPr/>
        </p:nvPicPr>
        <p:blipFill>
          <a:blip r:embed="rId1"/>
          <a:stretch/>
        </p:blipFill>
        <p:spPr>
          <a:xfrm>
            <a:off x="2916360" y="189000"/>
            <a:ext cx="39146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00"/>
                </a:solidFill>
                <a:latin typeface="Lucida Sans Unicode"/>
              </a:rPr>
              <a:t>Falecimento em Cambridge, suas cinzas foram enterradas na Abadia de Westmins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m 4" descr="Ernest Rutherford"/>
          <p:cNvPicPr/>
          <p:nvPr/>
        </p:nvPicPr>
        <p:blipFill>
          <a:blip r:embed="rId1"/>
          <a:stretch/>
        </p:blipFill>
        <p:spPr>
          <a:xfrm>
            <a:off x="2268360" y="189000"/>
            <a:ext cx="4896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pt-BR" sz="2700" spc="-1" strike="noStrike">
                <a:solidFill>
                  <a:srgbClr val="000000"/>
                </a:solidFill>
                <a:latin typeface="Lucida Sans Unicode"/>
              </a:rPr>
              <a:t>Não está na natureza das coisas que o homem realize um desenvolvimento súbito e inesperado, a ciência avança passo a passo e cada homem depende de trabalho de seus predecessores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Em um trabalho de ínicio de carreira descobriu o conceito de meia vida radioativa, provou que a radioatividade causa a transmutação de um elemento químico em outro, distinguiu e nomeou as radiações alfa e bet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Retornou à Inglaterra para se tornar professor de física na Universidade de Manches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Premiado com o Nobel de química por suas investigações sobre desintegração dos elementos e química das substâncias radioativ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Juntamente com Hans Geiger e Ernest Mardsen descobriu a natureza nuclear dos átom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ítulo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9500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Espaço Reservado para Conteúdo 5" descr="model rutherford.png"/>
          <p:cNvPicPr/>
          <p:nvPr/>
        </p:nvPicPr>
        <p:blipFill>
          <a:blip r:embed="rId2"/>
          <a:stretch/>
        </p:blipFill>
        <p:spPr>
          <a:xfrm>
            <a:off x="2300400" y="1481040"/>
            <a:ext cx="454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391" name="Espaço Reservado para Conteúdo 7" descr="rutherford01.jpeg"/>
          <p:cNvPicPr/>
          <p:nvPr/>
        </p:nvPicPr>
        <p:blipFill>
          <a:blip r:embed="rId2"/>
          <a:stretch/>
        </p:blipFill>
        <p:spPr>
          <a:xfrm>
            <a:off x="2627280" y="1700280"/>
            <a:ext cx="43498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1:43:30Z</dcterms:created>
  <dc:creator>Professor</dc:creator>
  <dc:description/>
  <dc:language>en-US</dc:language>
  <cp:lastModifiedBy>Professor</cp:lastModifiedBy>
  <dcterms:modified xsi:type="dcterms:W3CDTF">2010-09-25T13:58:50Z</dcterms:modified>
  <cp:revision>5</cp:revision>
  <dc:subject/>
  <dc:title>Ernest Rutherford</dc:title>
</cp:coreProperties>
</file>