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8AB-D424-4086-9474-114E9990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9CB-E1C5-4C9C-8036-2F36FC8B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DCD-2755-4E74-B10A-8C17C51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601-096C-4C71-AC2B-38C9562D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A42-AF40-4604-B5A5-5F85BA4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AA7-68D1-4F7F-B6F9-3F84A60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121-6C3A-4B82-9297-FA8CF1B2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DA4-1344-4BE3-9082-C551F5D7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389-3DF7-4D17-92D6-23A1475E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814-BAF2-470F-BBD9-FA3D1FA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32D-8662-49D9-9F4A-3BB8AE3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F0D-07DD-4162-BA85-6693C59A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BF1-4006-4CEE-8F99-2CC33B4FCA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Li_anim_transp"/>
          <p:cNvPicPr/>
          <p:nvPr/>
        </p:nvPicPr>
        <p:blipFill>
          <a:blip r:embed="rId1"/>
          <a:stretch/>
        </p:blipFill>
        <p:spPr>
          <a:xfrm>
            <a:off x="571680" y="3143160"/>
            <a:ext cx="396072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857160" y="500040"/>
            <a:ext cx="774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</a:t>
            </a:r>
            <a:r>
              <a:rPr b="1" lang="pt-BR" sz="14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 </a:t>
            </a:r>
            <a:r>
              <a:rPr b="1" lang="pt-BR" sz="54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DE</a:t>
            </a:r>
            <a:r>
              <a:rPr b="1" lang="pt-BR" sz="14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NIELS BOHR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Niels Bohr"/>
          <p:cNvPicPr/>
          <p:nvPr/>
        </p:nvPicPr>
        <p:blipFill>
          <a:blip r:embed="rId2"/>
          <a:stretch/>
        </p:blipFill>
        <p:spPr>
          <a:xfrm>
            <a:off x="5000760" y="3286080"/>
            <a:ext cx="24987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260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14200" y="1214280"/>
            <a:ext cx="8572680" cy="5429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53"/>
          <p:cNvSpPr/>
          <p:nvPr/>
        </p:nvSpPr>
        <p:spPr>
          <a:xfrm>
            <a:off x="214200" y="1214280"/>
            <a:ext cx="842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ESPECTROS ATÔMICO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LUZ EMITIDA POR UM ELEMENTO EXCITADO , ERA COLETADA, COLIMADA POR UMA  FENDA, E DEPOIS DIFRATADA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APARECIAM LINHAS (OU RAIAS ) DE EMISSÃO  QUE CONSTITUEM O ESPECTRO ATÔMICO (DESCONTÍNUO)  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3059280" y="4221000"/>
            <a:ext cx="25714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260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14200" y="714240"/>
            <a:ext cx="8572680" cy="5929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59" name="CaixaDeTexto 53"/>
          <p:cNvSpPr/>
          <p:nvPr/>
        </p:nvSpPr>
        <p:spPr>
          <a:xfrm>
            <a:off x="285840" y="857160"/>
            <a:ext cx="84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SÉRIES NUMÉRICAS E O ESPECTRO DE HIDROGÊNIO ANTES DO MODELO DE BOHR 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ESPECTROS ERAM TRATADOS APENAS DE FORMA EMPÍRICA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4057560" y="3213000"/>
                <a:ext cx="1028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71720" y="2214720"/>
          <a:ext cx="6429240" cy="3429000"/>
        </p:xfrm>
        <a:graphic>
          <a:graphicData uri="http://schemas.openxmlformats.org/drawingml/2006/table">
            <a:tbl>
              <a:tblPr/>
              <a:tblGrid>
                <a:gridCol w="1285560"/>
                <a:gridCol w="1501920"/>
                <a:gridCol w="452520"/>
                <a:gridCol w="2033640"/>
                <a:gridCol w="1155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ér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gião do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pect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órmu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ym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ltraviole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óximo do Visíve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3,4,..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alm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pt-B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fravermelh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4,5,.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asch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fravermelh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5,6,.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acke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fravermelh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6,7,.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fun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fravermelh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,7,8,.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7"/>
              <p:cNvSpPr txBox="1"/>
              <p:nvPr/>
            </p:nvSpPr>
            <p:spPr>
              <a:xfrm>
                <a:off x="4357800" y="2928960"/>
                <a:ext cx="1028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4375080" y="3429000"/>
                <a:ext cx="1054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4387680" y="3929040"/>
                <a:ext cx="1041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1"/>
              <p:cNvSpPr txBox="1"/>
              <p:nvPr/>
            </p:nvSpPr>
            <p:spPr>
              <a:xfrm>
                <a:off x="4375080" y="4500720"/>
                <a:ext cx="1054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2"/>
              <p:cNvSpPr txBox="1"/>
              <p:nvPr/>
            </p:nvSpPr>
            <p:spPr>
              <a:xfrm>
                <a:off x="4375080" y="5072040"/>
                <a:ext cx="1054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1260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14200" y="714240"/>
            <a:ext cx="8572680" cy="5929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76" name="CaixaDeTexto 53"/>
          <p:cNvSpPr/>
          <p:nvPr/>
        </p:nvSpPr>
        <p:spPr>
          <a:xfrm>
            <a:off x="285840" y="857160"/>
            <a:ext cx="84294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SÉRIES NUMÉRICAS E O ESPECTRO DE HIDROGÊNIO ANTES DO MODELO DE BOHR 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Fórmula de Rydberg – n &gt;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057560" y="3213000"/>
                <a:ext cx="1028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3000240" y="3143160"/>
                <a:ext cx="23576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571680" y="3214800"/>
                <a:ext cx="1819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≃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9000" y="75960"/>
            <a:ext cx="3124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els Henrik David Bohr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0" y="0"/>
            <a:ext cx="2057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14200" y="714240"/>
            <a:ext cx="8572680" cy="5929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aixaDeTexto 53"/>
          <p:cNvSpPr/>
          <p:nvPr/>
        </p:nvSpPr>
        <p:spPr>
          <a:xfrm>
            <a:off x="500040" y="1143000"/>
            <a:ext cx="78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INCOMPATIBILIDADE COM MODELO DE RUTHERFOR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egundo as leis do eletromagnetismo clássico o elétron em orbita do núcleo atômico deveria emitir energia continuamente 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 elétron  ao perder energia em forma de onda eletromagnética  iria se aproximar  rapidamente do núcleo atômico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9000" y="75960"/>
            <a:ext cx="3124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els Henrik David Bohr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0"/>
            <a:ext cx="2057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14200" y="714240"/>
            <a:ext cx="8572680" cy="5929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aixaDeTexto 53"/>
          <p:cNvSpPr/>
          <p:nvPr/>
        </p:nvSpPr>
        <p:spPr>
          <a:xfrm>
            <a:off x="285840" y="7858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Postulados  de Niels Bohr (1885-196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1 Postulado :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MS Gothic"/>
              </a:rPr>
              <a:t>Os elétrons descrevem órbitas circulares estacionárias ao redor do núcleo, sem emitirem nem absorverem energia.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bohr1"/>
          <p:cNvPicPr/>
          <p:nvPr/>
        </p:nvPicPr>
        <p:blipFill>
          <a:blip r:embed="rId2"/>
          <a:stretch/>
        </p:blipFill>
        <p:spPr>
          <a:xfrm>
            <a:off x="500040" y="1500120"/>
            <a:ext cx="1270080" cy="1587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"/>
              <p:cNvSpPr txBox="1"/>
              <p:nvPr/>
            </p:nvSpPr>
            <p:spPr>
              <a:xfrm>
                <a:off x="1133640" y="3500280"/>
                <a:ext cx="1839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357720" y="3500280"/>
                <a:ext cx="14284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071720" y="4786200"/>
                <a:ext cx="1981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3571920" y="4786200"/>
                <a:ext cx="9144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9000" y="75960"/>
            <a:ext cx="3124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els Henrik David Bohr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0"/>
            <a:ext cx="2057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214200" y="714240"/>
            <a:ext cx="8572680" cy="5929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aixaDeTexto 53"/>
          <p:cNvSpPr/>
          <p:nvPr/>
        </p:nvSpPr>
        <p:spPr>
          <a:xfrm>
            <a:off x="285840" y="785880"/>
            <a:ext cx="828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Postulados  de Niels Bohr (1885-196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2 Postulado :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MS Gothic"/>
              </a:rPr>
              <a:t>Fornecendo energia (elétrica, térmica, ....) a um átomo, um ou mais elétrons a absorvem e saltam para níveis mais afastados do núcleo. Ao voltarem as suas órbitas originais, devolvem a energia recebida em forma de luz (fenômeno observado, tomando como  exemplo, uma barra de ferro aquecida ao rubro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bohr1"/>
          <p:cNvPicPr/>
          <p:nvPr/>
        </p:nvPicPr>
        <p:blipFill>
          <a:blip r:embed="rId2"/>
          <a:stretch/>
        </p:blipFill>
        <p:spPr>
          <a:xfrm>
            <a:off x="500040" y="1500120"/>
            <a:ext cx="1270080" cy="1587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3214800" y="4714920"/>
                <a:ext cx="2633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9000" y="75960"/>
            <a:ext cx="3124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els Henrik David Bohr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0"/>
            <a:ext cx="2057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214200" y="714240"/>
            <a:ext cx="8572680" cy="5929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aixaDeTexto 53"/>
          <p:cNvSpPr/>
          <p:nvPr/>
        </p:nvSpPr>
        <p:spPr>
          <a:xfrm>
            <a:off x="285840" y="785880"/>
            <a:ext cx="828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Postulados  de Niels Bohr (1885-196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571680" y="1643040"/>
            <a:ext cx="2971800" cy="1500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3714840" y="1714680"/>
            <a:ext cx="5029200" cy="11912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A linha vermelha no espectro atômico é causada por elétrons saltando</a:t>
            </a:r>
            <a:br>
              <a:rPr sz="2000"/>
            </a:b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da terceira órbita para a segunda órbi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3"/>
          <a:stretch/>
        </p:blipFill>
        <p:spPr>
          <a:xfrm>
            <a:off x="571680" y="3214800"/>
            <a:ext cx="3000240" cy="500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4"/>
          <a:stretch/>
        </p:blipFill>
        <p:spPr>
          <a:xfrm>
            <a:off x="500040" y="4000680"/>
            <a:ext cx="3429000" cy="1839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000680" y="4000680"/>
            <a:ext cx="4643280" cy="1800360"/>
          </a:xfrm>
          <a:prstGeom prst="rect">
            <a:avLst/>
          </a:prstGeom>
          <a:noFill/>
          <a:ln w="38160">
            <a:solidFill>
              <a:srgbClr val="79a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A linha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verde-azulada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 no espectro atômico é causada por elétrons saltando da quarta para a segunda órbit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5"/>
          <a:stretch/>
        </p:blipFill>
        <p:spPr>
          <a:xfrm>
            <a:off x="500040" y="5929200"/>
            <a:ext cx="3071880" cy="4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376200"/>
            <a:ext cx="861048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0481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9000" y="75960"/>
            <a:ext cx="3124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els Henrik David Bohr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25" descr="Li_anim_transp"/>
          <p:cNvPicPr/>
          <p:nvPr/>
        </p:nvPicPr>
        <p:blipFill>
          <a:blip r:embed="rId1"/>
          <a:stretch/>
        </p:blipFill>
        <p:spPr>
          <a:xfrm>
            <a:off x="8271000" y="76320"/>
            <a:ext cx="847440" cy="6714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0" y="0"/>
            <a:ext cx="2057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MODELO ATÔMICO DE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Dutch801 Rm BT"/>
                <a:ea typeface="Times New Roman"/>
              </a:rPr>
              <a:t>BO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14200" y="714240"/>
            <a:ext cx="8572680" cy="5929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aixaDeTexto 53"/>
          <p:cNvSpPr/>
          <p:nvPr/>
        </p:nvSpPr>
        <p:spPr>
          <a:xfrm>
            <a:off x="285840" y="78588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Postulados  de Niels Bohr (1885-196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odelo de Bohr explica as linhas de emissão e de absorção do espectro de hidrogênio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Está de acordo com as Séries conhecida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3657600" cy="185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3571920" cy="500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6"/>
          <p:cNvSpPr/>
          <p:nvPr/>
        </p:nvSpPr>
        <p:spPr>
          <a:xfrm>
            <a:off x="4286160" y="1643040"/>
            <a:ext cx="4286520" cy="1679400"/>
          </a:xfrm>
          <a:prstGeom prst="rect">
            <a:avLst/>
          </a:prstGeom>
          <a:noFill/>
          <a:ln w="38160">
            <a:solidFill>
              <a:srgbClr val="8f5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A linha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violeta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MS Gothic"/>
              </a:rPr>
              <a:t> mais brilhante no espectro atômico é causada por elétrons saltando da sexta para a segunda órbit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8:51:35Z</dcterms:created>
  <dc:creator>Silvestre Alvaro Gomes &amp; Equipe</dc:creator>
  <dc:description/>
  <dc:language>en-US</dc:language>
  <cp:lastModifiedBy>Professor</cp:lastModifiedBy>
  <dcterms:modified xsi:type="dcterms:W3CDTF">2010-09-25T12:06:28Z</dcterms:modified>
  <cp:revision>405</cp:revision>
  <dc:subject/>
  <dc:title>A História do Átomo</dc:title>
</cp:coreProperties>
</file>